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BCF-DA96-4683-85EA-CC42E444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258-8853-4A1F-A68D-DE3D20F5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5EA-8C14-48AE-9784-F8E3EC5D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219-F68C-4504-A6C9-B41D9A23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1E8B-4E7F-4292-BFA5-35946657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33CA-20BC-49FC-98C1-7127DAA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5480-FF73-4F21-8330-E829028F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BD6F-6ED2-420E-B349-01F48AF2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102E-83AF-46B1-AFD4-54571E95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8D36-531C-4E5D-BD3B-92147005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705B-22EB-452F-9524-BC2D4DD4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01A-51BA-4592-942B-5F182BB9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EF3C-4267-48A4-A907-53DA9D31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0A40-E502-4055-B955-354A1543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5EEA-6911-4ED0-B2D6-92B76CEE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264A-7C84-44FA-A8A3-BE4ABDA6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66E2-6133-42B4-90D6-59286C50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AE2-98E2-4969-A3C1-E26A33BB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616-ADA2-4B7F-9A0B-7B9638D8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9D6-EC41-435F-9783-B8185E1F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8A4-E71F-4C4B-A00E-55120593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924-EABB-4FFA-8710-B9E3BAC3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D95-25DF-494A-95E6-DEE066C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93B-20A8-47C8-9EC1-81C323A2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AFB7-556C-4A54-A3C6-CEA8476EE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9012-6359-40D5-8227-A6EF40FB0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Skills and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sson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555640" cy="1792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.A.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xplain what knowledge you have gained about model performers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xplain what knowledge you have gained about stages of learning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AB part 2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Question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ucture of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ing sentence (reword the question and introduce answ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(giv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racteristics – what is good about them / automatic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using a model perfo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lly completed well by the maj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AB part 2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Question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ucture of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stag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does each mean for a player of that lev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practices can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level are you 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ow that there is an increase in pressure gradually through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are the practices you have stated useful for that stage of lear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AB part 2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Question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ucture of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have model performer helped you design a relevant training program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have the stages of learning helped you design a relevant training program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AB part 2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perform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son of performances gave me a target to ach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son allowed me to identify areas for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 was able to look at the fine detail of the skill to ensure I knew what was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 / she motivated me to impr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 / she helped to create a training programme that would allow me to improve my skill by using their exp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AB part 2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ges of learn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 was able to identify my stage of learning (state what it is) and create a programme to suit my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owing my stage of learning helped to select appropriate practices that would suit my ability (state what practices you will use in your programm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owing my stage of learning helped me decide how much pressure I should be working under – give an example, I am at the cognitive stage of learning therefore I have little pressure appl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.A.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is knowledge helped you design a relevant development programme to improve your performance needs identified in question 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8:14:35Z</dcterms:created>
  <dc:creator>DooganS</dc:creator>
  <dc:description/>
  <dc:language>en-US</dc:language>
  <cp:lastModifiedBy>DooganS</cp:lastModifiedBy>
  <dcterms:modified xsi:type="dcterms:W3CDTF">2010-01-11T16:55:00Z</dcterms:modified>
  <cp:revision>3</cp:revision>
  <dc:subject/>
  <dc:title>Skills and Techniques</dc:title>
</cp:coreProperties>
</file>